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17EB-DFA8-47D4-96E2-7BC36557760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CEA-CAC6-4867-BB3B-AB62ACD27BA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6407-1CA8-4F9C-B3D1-32051BD210D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8F7-D513-49BF-B869-582AE8C96FA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61A8-6204-4C22-A05E-5387C38060D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7227-D0B9-472B-98D2-0991B2FA140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3075-69B9-43F4-BCF8-3C639E41D034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D33-2102-40D8-9570-D5A319ED928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4AD5-FA74-41F9-8085-10F10A134E2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1593-86F4-4580-BD9F-2E2751327A7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4D9C-22C1-40E1-B9C3-230918364BC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1AE-C469-4FB6-A781-F0E488B4FA7B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EAC9-322F-4D90-8198-09AB6E69C2CA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FD2-B50F-4236-8041-7AE4B837940E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4CC-BE29-4CFD-9A62-8E11C61EE13E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1374-7AF8-48A8-A426-4EC1E0F2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09A1-FA3E-4B2C-B19A-DA6588DD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FDDD-ADAF-4379-BA3C-BE6F3EC0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3C4E-30A0-4A89-856C-C7785006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4FB7-9B0F-4D94-B424-A3BC32C7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B7C7-8A9C-4669-B293-0B7287F8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2909-DC8A-4331-BAF6-C32377E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4B76-364D-4F06-B936-7001A09D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56D5-E170-4546-86A1-E4267769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7AAA-D82E-4F68-B10C-4C4248A5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4BD-4EA5-48E0-9B7B-DD088E6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E033-04BE-4DFC-912B-04C7963A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40E0-F93E-4F74-AE08-E9EA1E8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AEF4-BE04-4BF2-A279-E6D325C9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D223-0542-4AF1-8095-E1718106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8C58-8574-45FC-B74D-AB4C9FE5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C192-97B1-4FB6-AC53-A81A7EF6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276E-5084-41C8-A455-10206D16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E47E-9BC1-4675-BF20-AA50E54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BE38-95DF-4222-BAAA-1A1B1791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570B-51CB-4C94-B24B-6D45D1DA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E557-4125-4929-BA97-DF0D1D77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1045-F87E-4272-B061-B49990D4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B282-6F9F-4E15-B443-E3F85C6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94B3-5DF1-41A2-8545-0C90D248AAE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21C4-2D83-425A-9FFD-08B8FF3A284C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dfdef6"/>
                </a:solidFill>
                <a:latin typeface="Arial"/>
              </a:rPr>
              <a:t>The Holocaust: The Aftermat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24000" y="5536800"/>
            <a:ext cx="849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id Canada do enough to help Holocaust survivors rebuild their 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krakow_auschwitz"/>
          <p:cNvPicPr/>
          <p:nvPr/>
        </p:nvPicPr>
        <p:blipFill>
          <a:blip r:embed="rId1"/>
          <a:stretch/>
        </p:blipFill>
        <p:spPr>
          <a:xfrm>
            <a:off x="1547640" y="105264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8"/>
          <p:cNvSpPr/>
          <p:nvPr/>
        </p:nvSpPr>
        <p:spPr>
          <a:xfrm>
            <a:off x="1619280" y="4869000"/>
            <a:ext cx="56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krakow-poland.com/News/Auschwitz-S-Arbeit-Macht-Frei-Entrance-Sign-Stolen-By-Thieves,gh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dfdef6"/>
                </a:solidFill>
                <a:latin typeface="Arial"/>
              </a:rPr>
              <a:t>Canada and the Universal Declaration of Human Righ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1946 John Peters Humphrey appointed the Director of the Human Rights Division of the UN Secretari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rincipal drafter of Universal Declaration of Human Rights, unanimously accepted by the UN General Assembly in 19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4" descr="jph-eng"/>
          <p:cNvPicPr/>
          <p:nvPr/>
        </p:nvPicPr>
        <p:blipFill>
          <a:blip r:embed="rId3"/>
          <a:stretch/>
        </p:blipFill>
        <p:spPr>
          <a:xfrm>
            <a:off x="6443640" y="2276640"/>
            <a:ext cx="2057400" cy="33019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6"/>
          <p:cNvSpPr/>
          <p:nvPr/>
        </p:nvSpPr>
        <p:spPr>
          <a:xfrm>
            <a:off x="6372360" y="5516640"/>
            <a:ext cx="22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pch.gc.ca/pgm/pdp-hrp/humphrey/index-eng.cf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Universal Declaration of Human Righ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human beings are born free and eq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ntitled to the rights and freedoms of the Decl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to life, liberty an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ment of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shall be subjected to torture or cruel, inhuman or degrading treatment or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to recognition everywhere before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Canadian Im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During the Holocaust, Canada admitted 5000 Jewish refugees – one of the lowest among refugee admitt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1947 Privy Council Order #1647 changed Jewish immigration to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ompted War Orphans Project, which allowed 1,123 Holocaust orphans to come to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By the end of the 1940s 40,000 Holocaust survivors were allowed into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War Orphans – Case Stud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lease choose </a:t>
            </a: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f the four orphans’ stories, and use the information in it to answer the questions in the work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plain to your group members what the Canadian government did to help the orphan you se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homework, please write 1-2 paragraphs answering the question, “Did Canada do enough to help Holocaust survivors rebuild their live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pecific examples from the War Orphans’ st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d your position, and be sure to include actions the governm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u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taken to make things easier for Holocaust surviv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deo Clip – Band of Br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uremburg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nadian post-war immigr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se study – War Orph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Video Clip – Band of Broth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ontext of the c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7" descr="big"/>
          <p:cNvPicPr/>
          <p:nvPr/>
        </p:nvPicPr>
        <p:blipFill>
          <a:blip r:embed="rId2"/>
          <a:stretch/>
        </p:blipFill>
        <p:spPr>
          <a:xfrm>
            <a:off x="1619280" y="2565360"/>
            <a:ext cx="5689440" cy="28321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9"/>
          <p:cNvSpPr/>
          <p:nvPr/>
        </p:nvSpPr>
        <p:spPr>
          <a:xfrm>
            <a:off x="1763640" y="5373720"/>
            <a:ext cx="547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hbocanada.com/bandofbrothers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Band of Brothers - Debrie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Describe what you saw in the cl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y did the soldiers make the civilians clean u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3 corners: Were the American soldiers’ actions too harsh, just right, or not harsh enoug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lease move to the corner you feel appropriate and discuss with your classm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The Nuremburg Tria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he International Military Tribunal (IMT) was convened by American, British, French and Soviet personnel in 1946 headed by American Justice Robert H. Jack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ied 24 individuals and 7 organizations with Crimes Against Humanity, Crimes Against Peace and War Cr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8" descr="5529_image"/>
          <p:cNvPicPr/>
          <p:nvPr/>
        </p:nvPicPr>
        <p:blipFill>
          <a:blip r:embed="rId3"/>
          <a:stretch/>
        </p:blipFill>
        <p:spPr>
          <a:xfrm>
            <a:off x="4643280" y="1628640"/>
            <a:ext cx="4038840" cy="321624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10"/>
          <p:cNvSpPr/>
          <p:nvPr/>
        </p:nvSpPr>
        <p:spPr>
          <a:xfrm>
            <a:off x="4643280" y="4941720"/>
            <a:ext cx="412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secondstory.com/portfolio/works/the-nuremberg-trials-what-is-justi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Innov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ternational Tribu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dividuals tried, not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 immunity for heads of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stablished Crimes Against Humanity (murder, torture, r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Trials - Judg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12 of the defendants were sentenced to death by ha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3 were sentenced to life impris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nuremberg_defendants"/>
          <p:cNvPicPr/>
          <p:nvPr/>
        </p:nvPicPr>
        <p:blipFill>
          <a:blip r:embed="rId3"/>
          <a:stretch/>
        </p:blipFill>
        <p:spPr>
          <a:xfrm>
            <a:off x="4643280" y="1700280"/>
            <a:ext cx="4038840" cy="30114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"/>
          <p:cNvSpPr/>
          <p:nvPr/>
        </p:nvSpPr>
        <p:spPr>
          <a:xfrm>
            <a:off x="4643280" y="4797360"/>
            <a:ext cx="403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ffffff"/>
                </a:solidFill>
                <a:latin typeface="Arial"/>
              </a:rPr>
              <a:t>http://www.jewishvirtuallibrary.org/images/nuremberg_defendants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- Legac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velopment of International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erved as a model for the development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Universal Declaration of Human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Geneva Co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stablishment of the International Criminal Court (I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dfdef6"/>
                </a:solidFill>
                <a:latin typeface="Arial"/>
              </a:rPr>
              <a:t>Nuremburg Shortcoming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ctor’s Justice – did the Allies have the right to put Nazi war criminals on trial when they themselves were guilty of committing heinous crim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9:51:42Z</dcterms:created>
  <dc:creator>David</dc:creator>
  <dc:description/>
  <dc:language>en-US</dc:language>
  <cp:lastModifiedBy>admin</cp:lastModifiedBy>
  <dcterms:modified xsi:type="dcterms:W3CDTF">2010-10-29T05:02:49Z</dcterms:modified>
  <cp:revision>9</cp:revision>
  <dc:subject/>
  <dc:title>The Holocaust: The Aftermath</dc:title>
</cp:coreProperties>
</file>